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6AF-8897-4049-A221-CE4272AA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16A-9A23-4AF8-B647-831EA8A2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1488-3814-4F9E-9670-40D2DBA6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E3E2-E37C-4CB9-836C-D490F787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F197-FB0E-4A1B-9ED7-769A01A0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6C96-ECE6-4123-AB35-57E6A881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3FFE-8513-4483-B7E2-59184608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BCED-0429-44DB-952C-6BE25710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49CA-9853-40B5-BD4D-97DC5954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440A-BD2A-40DB-A76E-16CF0C80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37A4-040D-4FE1-9C58-B1DF3BA2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A61C-1252-4C9E-89CB-A9412E29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4D18-AB94-43B5-AE76-264A4E6EC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733920"/>
            <a:ext cx="2971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Chalic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Al Fre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23” x 9”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968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3733920"/>
            <a:ext cx="2971800" cy="17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Nature’s Sequenc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Billie Ruth Suddeth, American, born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hand dyed European-cut reed splints, natural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 14” x 17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4720" y="838080"/>
            <a:ext cx="2000520" cy="2667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191120" y="84780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56386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and the ar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N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udies: interdependence of people, resource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rt: weaving, sculpture, qualities of art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ce:  natural resources, minerals, pl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:  attributes, three dimensional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48080" y="192240"/>
            <a:ext cx="70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rt object in this photograp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18560" y="990720"/>
            <a:ext cx="482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way it looks, can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me words you c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think this object w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 or warm if you touched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think this object has a u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s it just created for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ook at and think ab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13160" y="1106640"/>
            <a:ext cx="458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of this objec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you can t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need mo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s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we put int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to help viewers know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s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93280" y="609480"/>
            <a:ext cx="451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y have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create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people get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to make this objec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ools do you think th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does it appea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meone gave this objec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s a gift, what would you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43200" y="762120"/>
            <a:ext cx="3753000" cy="281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0760" y="228600"/>
            <a:ext cx="78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let’s examine a very different looking art objec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760" y="3657600"/>
            <a:ext cx="743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type of object this is?  How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know how it would feel if you could touch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heavy or l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arge does it app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me ways you imagine it c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41148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know about basket wea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describ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r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baskets? Where would the artist get these materi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explain to someone how to make a baske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4343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describe (explain) some of the ways that people have used baskets in the pas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me ways that people use baskets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you do with this bas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00600" y="8380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95280" y="914400"/>
            <a:ext cx="2000520" cy="2666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4440" y="22860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and contr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se two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6720" y="3809880"/>
            <a:ext cx="6942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ibu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both objects sh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ome ways they are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carefully 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(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/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                       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                   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6T21:54:26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